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8AC-92D5-4C1B-824A-3062A45C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95F-50A3-4EB1-A627-8026309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A53-E0E8-44F5-981C-D847AF07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C9B-65C0-4A3E-BA29-A0F23F84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457-C72E-49F6-B0C0-566412E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7BF-398C-4BC1-A077-280F2ED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000-4CBD-4A2E-8B4B-449A0D15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E66-4538-4721-83A1-AD53D4EB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00A-489B-46AB-AD59-A36E8FE7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782-654A-4E71-BC94-C450DA9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243-FFC2-4F30-9691-3F2205B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1A7-2C1B-4563-B27A-E9CF796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5C0C-E5C7-4F51-85ED-09E26FE61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271440"/>
            <a:ext cx="82090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DICTION OF CENTRAL NERVOUS SYSTEM EMBRYONAL TUMOUR OUTCOME BASED ON GENE EXPRE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pression Datasets come in two different (ASCII, Tab separated) forma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ame&gt;.res  = Whitehead format (contains Affymetrix “calls,” rescaling factors and the numerical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ame&gt;.gct = GeneCluster format (contains only the basic numerical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ple class vectors have na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name&gt;.cls = Contains the sample class member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tailed formats of these files are described in the following p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1080" y="453960"/>
            <a:ext cx="855000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Bytes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File Nam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798,61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B _MD_classic_desmoplastic .r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ulloblastoma classic and desmoplas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,797,29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B _MD_classic_desmoplastic .g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B _MD_classic_desmoplastic .cl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297,97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_multiple_tumor_samples.r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Brain tum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296,34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_multiple_tumor_samples.g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_multiple_tumor_samples.cl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205,001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1_multiple_tumor_samples.r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203,44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1_multiple_tumor_samples.g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1_multiple_tumor_samples.cl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,312,57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2_multiple_tumor_samples.r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,309,065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2_multiple_tumor_samples.g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7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A2_multiple_tumor_samples.cl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995,689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C_MD_outcome.r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ulloblastoma treatment outc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,993,350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C_MD_outcome.gc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set_C_MD_outcome.cl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lain" startAt="1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Supplementary Information section II for more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lain" startAt="1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3360" y="295200"/>
            <a:ext cx="81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s A, A1, A2, B and C “&lt;filename&gt;.res” file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0240" y="2754360"/>
            <a:ext cx="2792160" cy="1122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37432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genes (r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604880" y="1666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0600" y="1276200"/>
            <a:ext cx="210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lumn: gene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28680" y="977760"/>
            <a:ext cx="175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column gene accession number e.g. Gen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678040" y="17236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10040" y="8668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1 (numerical expression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00760" y="819000"/>
            <a:ext cx="19047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1 (“cal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gene ab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gen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mar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798720" y="1599840"/>
            <a:ext cx="206640" cy="593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743360" y="1744560"/>
            <a:ext cx="322200" cy="47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62640" y="87624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2 (numerical expression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2720" y="933480"/>
            <a:ext cx="13716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2 (“cal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gene ab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gen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mar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597720" y="183960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353360" y="1784160"/>
            <a:ext cx="209520" cy="438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34400" y="1685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4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58840" y="2592360"/>
            <a:ext cx="862200" cy="1474920"/>
          </a:xfrm>
          <a:custGeom>
            <a:avLst/>
            <a:gdLst/>
            <a:ahLst/>
            <a:rect l="l" t="t" r="r" b="b"/>
            <a:pathLst>
              <a:path w="1000" h="1392">
                <a:moveTo>
                  <a:pt x="184" y="1392"/>
                </a:moveTo>
                <a:cubicBezTo>
                  <a:pt x="92" y="932"/>
                  <a:pt x="0" y="472"/>
                  <a:pt x="136" y="240"/>
                </a:cubicBezTo>
                <a:cubicBezTo>
                  <a:pt x="272" y="8"/>
                  <a:pt x="856" y="40"/>
                  <a:pt x="10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840" y="4070520"/>
            <a:ext cx="8201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st of Chip numbers and Re-scaling factors in the same order as the header (for the first sample the re-scaling factor is always 1.0). Each column (sample) was multiplied by 1/slope of a least squares linear fit of the experiment vs. the baseline (I.e.first column). As the data is already re-scaled if one wants to undo the re-scaling and obtain raw values one should divide each column by the corresponding re-scaling factor shown in the second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erical expression values are trimmed average differences between the perfect match (PM) and mismatch (MM) probe cells for each gene. The calls are: A=gene absent, P=gene present, M=marginal, and are helpful to assess the absence or presence of a gene (or its degree of consistency across the probe cells). These values are assigned by Affymetrix’s GeneChip software. For more details s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schutz, R. J., Fodor, S. P., Gingeras, T. R. &amp; Lockhart, D. J. (1999). High-density synthetic oligonucleotide arrays. Nat. Gen., 21, 20--2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ffymetrix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7360" y="28191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267000"/>
            <a:ext cx="3200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12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91600" y="2381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420920" y="2354400"/>
          <a:ext cx="760248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0920" y="2354400"/>
                    <a:ext cx="7602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 flipV="1">
            <a:off x="872640" y="2449440"/>
            <a:ext cx="490680" cy="6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995480"/>
            <a:ext cx="12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 with Sampl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3360" y="29520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s A, A1, A2, B and C “&lt;filename&gt;.gct” file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05200" y="2776680"/>
            <a:ext cx="792000" cy="180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08280" y="4557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genes (r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00240" y="1928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03600" y="1206360"/>
            <a:ext cx="152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lumn: gene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5240" y="100008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lumn Affymetrix gene accession number (e.g. Genb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524400" y="188568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36960" y="111744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1 (numerical expression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2280" y="111924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2 (numerical expression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019920" y="195084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94400" y="2411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31840" y="4500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725480" y="30114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360" y="3600360"/>
            <a:ext cx="3200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12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69200" y="3086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328760" y="2819520"/>
            <a:ext cx="471600" cy="2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610000"/>
            <a:ext cx="129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 with Sampl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905120" y="2433600"/>
          <a:ext cx="5379840" cy="13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3600"/>
                    <a:ext cx="53798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14760" y="2789280"/>
            <a:ext cx="692280" cy="1654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37280" y="430848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amples (colum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22920" y="187632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0120" y="115092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3 (numerical expression valu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77160" y="1962000"/>
            <a:ext cx="0" cy="362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01:53:10Z</dcterms:created>
  <dc:creator>Tamayo</dc:creator>
  <dc:description/>
  <dc:language>en-US</dc:language>
  <cp:lastModifiedBy>Pablo Tamayo</cp:lastModifiedBy>
  <dcterms:modified xsi:type="dcterms:W3CDTF">2001-11-15T14:36:26Z</dcterms:modified>
  <cp:revision>30</cp:revision>
  <dc:subject/>
  <dc:title>No Slide Title</dc:title>
</cp:coreProperties>
</file>